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7392-7B78-4C1F-9827-515A864CD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F097-37A9-4561-A1D4-BCD27A69C48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5CB6-2C09-4A8C-8FAE-32B83ADEE9A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4739-3416-4840-8553-3461DA19AC0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1090-B096-48E9-859A-9AA38030BDB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A4A6-233A-47B6-8307-F4C4D707D30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8D08-36DC-47A9-ADAC-7FBE441B130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F1F9-0E91-4B4C-9820-1AFBCE2D6D5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E240-AC19-43E3-954A-291387286A7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968F-AD5D-4C44-9838-0141D8FFAFE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4374-414A-4C06-B475-A6E505433EF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BDF9-424B-414F-A0D8-FEE5677633B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4ABA-549D-4482-9CA8-A609F0CA255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0C5-DBBB-4522-8C9D-0FE745DF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64F-1EE4-4415-984E-E3D0594E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D63-0309-4AFD-8F64-89C61C08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A84-0D89-4B26-9BFF-80746BEB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61AD-77AC-4006-9C74-A7AFC4B4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3C21-D360-47D3-946A-B39990C9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9BE1-5A0D-464A-A797-59EE89BD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3B05-4ECD-414D-91C5-BF6AD73B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06EB-D9F6-4FCE-AD00-8AE90AD2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C7FB-F7EF-4D76-84C7-48ADB64A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3E51-46A0-4C7E-B46B-40D46AAF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4DD-260B-499E-B18A-1295FCE9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1DD1-0491-4238-BB81-AE5D70FD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470A-B7DA-42EA-BEA0-88B1A2B0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D478-A494-4931-B6A1-81FA7E39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E6A8-6F81-4810-B680-87C08EB7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D7B4-94D6-4C66-B171-6CD76390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1C2-A2E6-4F41-BAAA-C3101FFC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86F-0E8C-467F-A573-ACFD2CA5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BC7-0B62-46EC-BA63-EDF28E20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757-754F-4837-8531-867096FD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B38-8E2B-4D6B-BED0-08C9EFD2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47D-BCDB-4687-A807-AB788E55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3CC-BD9C-4E0D-9367-CE2351D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9F61-F646-484A-B2D8-85D045CE5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3A03-68F0-4267-9CF6-4BB2717F6BB3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Notes to Share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ig Ideas from Your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ancock Textbook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hapters 6, 7, and 14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stars link to websites </a:t>
            </a: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if you are interested…</a:t>
            </a:r>
            <a:br>
              <a:rPr sz="3200"/>
            </a:b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676520" y="4800600"/>
            <a:ext cx="685800" cy="6094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Interdisciplinary &amp; Intertextual Connections and Response (Hancock, Ch. 14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Clusters: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choose texts from across the genres (narrative, expository, and poetic) to increase depth of children’s understanding (vs. breadth) and foster making connections to multiple texts &amp; forma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Expose students to all literary genre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Connect fact and fiction for both enjoyment and learning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Create opportunities for a range of response activities related to a core topic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Choose </a:t>
            </a: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theme &gt; core book &gt; collection &gt; design respons choices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(that relate to district standards and learning objectives)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 Exploration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rganize much of your curriculum around topical themes (rather than content area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en done well, they help students connect learning across the disciplines (but pick a KEY life theme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n explicit graphic/visual of the connections is key to staying on track (extended lesson plan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ombine whole-class, small group and individual response activitie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ntegrate reading comprehension strategy use across the texts and topic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t’s tricky and complex - best when you have some experience!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Interdisciplinary &amp; Intertextual Connections and Response (Hancock, Ch. 14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win Texts Meet Technolog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lend fiction, non-fiction, and Internet website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Use websites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(to generate prior knowledge),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during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(to provide a visual/interactive connection), and/or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reading (to stimulate a response). 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Provide access to non-traditional formats and introduce new “genres” (e.g., blogs, wikis, online storybooks,interactive animations, audio and video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Provide access to multiple perspectives (culture, language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3124080" y="5029200"/>
            <a:ext cx="838440" cy="76212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5257800" y="5029200"/>
            <a:ext cx="838080" cy="76212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Interdisciplinary &amp; Intertextual Connections and Response (Hancock, Ch. 14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lements of Modern Fantasy (Hancock, Ch. 4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an element that exists only in the imagin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he imaginary elements provides the bridge that separates fantasy from realism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he reader (if willing) is transported to a world of imaginary settings, elements of magic, and heroes/heroines that possess incredible power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Great fantasies can even reveal new insights into the world of reality (e.g., Thief Lord; Tuck Everlasting, Charlotte’s Web, James &amp; The Giant Peach)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buse of power, life and death, justice under the law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ypes of Fantas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Animal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animals that possess human qualities in addition to their natural characteristics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Stuart Littl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E.B. White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Humorous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exxagerated tales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BFG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Roald Dahl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Ghost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mystery and unexplainable happenings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Skellig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David Almond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Time travel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characters shift in time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Magic Treehous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Mary Pope Osborne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High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heroic, dramatic questions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The Chronicles of Narnia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C.S. Lewis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Science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fantasy balanced scientific fact with fiction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A Wrinkle in Tim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Madeline L’Engle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Characteristics and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Benefits of Fantasy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t continuously makes the fantastic element ingenious and creative (but somehow believable) throughout the central events of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ality fantasy provides an escape from reality to pretend, visualize, and dream about what might be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ality fantasy challenges and develops a child’s imagin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ality fantasy provides ways for the reader to reflect on bigger life issues (e.g., morality, values, mortality, community, society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Responding to Fantas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Young readers: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appreciating the presence of magic and impossibility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Learning about fantasy “series” to inspire reading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Explore </a:t>
            </a:r>
            <a:r>
              <a:rPr b="0" i="1" lang="en-US" sz="2200" spc="-1" strike="noStrike">
                <a:solidFill>
                  <a:srgbClr val="330000"/>
                </a:solidFill>
                <a:latin typeface="Arial"/>
              </a:rPr>
              <a:t>Magic Treehouse 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Series on the Internet!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Intermediate readers: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Reflecting with peers about the deeper meaning behind the magic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Artistic responses (writing, drawing, acting) to envision the hero/heroine in his/her glory in a triumph over insurmountable challenge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echnology Connection: </a:t>
            </a:r>
            <a:r>
              <a:rPr b="0" i="1" lang="en-US" sz="2200" spc="-1" strike="noStrike">
                <a:solidFill>
                  <a:srgbClr val="330000"/>
                </a:solidFill>
                <a:latin typeface="Arial"/>
              </a:rPr>
              <a:t>Guardians of Ga’Hoole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7848720" y="5181480"/>
            <a:ext cx="685800" cy="60984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7696080" y="2971800"/>
            <a:ext cx="685800" cy="6094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Nonfiction literature (Hancock, Ch. 13) Biography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Biography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authentic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 Factual or fictional portrai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mount of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overag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 Whole life or certain ev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ingle person or multiple peopl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in a group? (e.g., athletes, musicians, inventors, author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om whos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erspectiv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 1st person autobiography, memoir, 3rd person, or an outsid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uality Biograph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ccuracy of fact and detai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ality writ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Benefits &amp; Responses to Biography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rovides a model of how to gather and synthesize research on a person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resents models of people whose hard work and determination helped to overcome obstacles - encourage readers to set high goals and achieve succes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Write their own autobiography or another person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Compare/contrast subjects strengths &amp; weaknesse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echnology Connection: </a:t>
            </a:r>
            <a:r>
              <a:rPr b="0" i="1" lang="en-US" sz="2200" spc="-1" strike="noStrike">
                <a:solidFill>
                  <a:srgbClr val="330000"/>
                </a:solidFill>
                <a:latin typeface="Arial"/>
              </a:rPr>
              <a:t>Children’s Encyclopedi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7924680" y="5486400"/>
            <a:ext cx="762120" cy="6094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Nonfiction Literature (Hancock Ch. 13): Informational Book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nformational book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expository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formational picture book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ext &amp; illustrations play a vital role in meaning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hotographic essay (authentic photos to bring events to life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 books with a narrative ble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cent trend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informational book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pported with evidence; links to illustration; unconventional formats; specialized topic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Orbis Pictus Award for Outstanding Nonfi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National Council of Teachers of English NCTE)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Benefits &amp; Responses to Informational Book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Invites children into reading for learning </a:t>
            </a:r>
            <a:r>
              <a:rPr b="0" i="1" lang="en-US" sz="2200" spc="-1" strike="noStrike">
                <a:solidFill>
                  <a:srgbClr val="33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enjoyment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ONS of topics to peak familiar interests or stimulate interest in a new topic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rovides model for conducting research/inquiry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spons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Biographies: Diary entries, oral dialogue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Conduct/present information on own topic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Interdisciplinary connections (fact and fiction) to </a:t>
            </a:r>
            <a:br>
              <a:rPr sz="2200"/>
            </a:b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broaden understanding of the topic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echnology Connection: </a:t>
            </a:r>
            <a:r>
              <a:rPr b="0" i="1" lang="en-US" sz="2200" spc="-1" strike="noStrike">
                <a:solidFill>
                  <a:srgbClr val="330000"/>
                </a:solidFill>
                <a:latin typeface="Arial"/>
              </a:rPr>
              <a:t>Bicycle Heroes: Two Centurie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696080" y="4876920"/>
            <a:ext cx="762120" cy="6094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8:58Z</dcterms:created>
  <dc:creator>Julie Coiro</dc:creator>
  <dc:description/>
  <dc:language>en-US</dc:language>
  <cp:lastModifiedBy>Julie Coiro</cp:lastModifiedBy>
  <cp:lastPrinted>2009-10-19T14:47:12Z</cp:lastPrinted>
  <dcterms:modified xsi:type="dcterms:W3CDTF">2010-10-18T16:45:06Z</dcterms:modified>
  <cp:revision>293</cp:revision>
  <dc:subject/>
  <dc:title>Metacognitive Strategy Instruction to Enhance Reading Comprehension</dc:title>
</cp:coreProperties>
</file>